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2591-C0C7-4152-BA84-640C0083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2F29-1EBD-4855-9578-A044DD94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EA98-6429-40F5-AD76-8BA9FAA5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9489-51EE-40DD-B45E-895D7D89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24C8-6DEE-40BA-BB86-625B384E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7435-C1D5-4A84-ACE4-D89234B1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C9FF-D1A0-4D71-8D5E-173A5B18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014-1948-4CC0-8F28-5E64D3D8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D997-E011-4DDE-A4D2-ECD9DEBD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D4DA-5BE2-4D3F-8924-DA80CCC7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117B-D05E-475A-800B-7F0BEBF3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C53-E244-4BE2-B357-AEB91F17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1E65-DF0D-4F89-B270-63CEC467C9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ziza.qip.ru/others/1302675720-" TargetMode="External"/><Relationship Id="rId3" Type="http://schemas.openxmlformats.org/officeDocument/2006/relationships/hyperlink" Target="file:///biw=1280&amp;bih=533&amp;tbm=isch&amp;ei=_vDsT9KTGMmphAf6wZCEDQ&amp;start=40&amp;sa=N" TargetMode="External"/><Relationship Id="rId4" Type="http://schemas.openxmlformats.org/officeDocument/2006/relationships/hyperlink" Target="http://www.google.ru/search?q=&#1082;&#1072;&#1088;&#1090;&#1080;&#1085;&#1082;&#1080;+&#1076;&#1086;&#1084;+&#1102;&#1088;&#1080;&#1103;+&#1075;&#1072;&#1075;&#1072;&#1088;&#1080;&#1085;&#1072;&amp;hl=ru&amp;newwindow=1&amp;biw=1280&amp;bih=533&amp;tbm=isch&amp;prmd=imvnso&amp;ei=3uzsT5mgO8e2hAfP2Kn0DA&amp;start=20&amp;sa=N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7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228600" y="35812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Юрий Алексеевич Гагарин – первый в мире космонав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7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685800" y="304920"/>
            <a:ext cx="8077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12 апреля 1961 год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первые в истории челове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Юрий Алексеевич Гагари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овершил полет в космо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космическом корабле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«Восток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агарин облетел земной шар за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1час 48 мину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благополучно вернулся на Земл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ракета восток"/>
          <p:cNvPicPr/>
          <p:nvPr/>
        </p:nvPicPr>
        <p:blipFill>
          <a:blip r:embed="rId2"/>
          <a:stretch/>
        </p:blipFill>
        <p:spPr>
          <a:xfrm>
            <a:off x="228600" y="2362320"/>
            <a:ext cx="4381560" cy="40384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990720" y="64008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кета «Восто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гагарин"/>
          <p:cNvPicPr/>
          <p:nvPr/>
        </p:nvPicPr>
        <p:blipFill>
          <a:blip r:embed="rId3"/>
          <a:stretch/>
        </p:blipFill>
        <p:spPr>
          <a:xfrm>
            <a:off x="5715000" y="2362320"/>
            <a:ext cx="2819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7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4114800" y="380880"/>
            <a:ext cx="4419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аятельная улыб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Юрия Гагарин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тала символом величия  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Росс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всего советского об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т оно, свершилось, это чудо!…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ь идёт – посторонись, народ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ын вернулся, да ещё откуда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 самих космических широт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он ворвался в наше завтра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 самой фантастике под стать…</a:t>
            </a:r>
            <a:br>
              <a:rPr sz="2000"/>
            </a:b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Первого на свете космонавт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нимает и целует м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с такой материнской силой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дость всенародную деля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нимает сына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вся Росс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коплещет сыну вся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Земл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улыбка"/>
          <p:cNvPicPr/>
          <p:nvPr/>
        </p:nvPicPr>
        <p:blipFill>
          <a:blip r:embed="rId2"/>
          <a:stretch/>
        </p:blipFill>
        <p:spPr>
          <a:xfrm>
            <a:off x="533520" y="990720"/>
            <a:ext cx="32763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7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4038480" y="2057400"/>
            <a:ext cx="4267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этот подвиг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Юрию Гагарин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ыло присвоено з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Героя Советского Союз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день полета в космос был объявлен праздником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Днем космонавтик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1289711083_yuri_gagarin_official_portrait"/>
          <p:cNvPicPr/>
          <p:nvPr/>
        </p:nvPicPr>
        <p:blipFill>
          <a:blip r:embed="rId2"/>
          <a:stretch/>
        </p:blipFill>
        <p:spPr>
          <a:xfrm>
            <a:off x="609480" y="838080"/>
            <a:ext cx="2971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7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5257800" y="685800"/>
            <a:ext cx="33526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27 марта 1968 год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рий Алексеевич Гагарин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поги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и невыясненных обстоятельствах вблизи деревни Новосёлово Киржачского района Владимирской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во время одного из тренировочных полёт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месте с военным лётчиком В. С. Серёги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обелиск место гибели"/>
          <p:cNvPicPr/>
          <p:nvPr/>
        </p:nvPicPr>
        <p:blipFill>
          <a:blip r:embed="rId2"/>
          <a:stretch/>
        </p:blipFill>
        <p:spPr>
          <a:xfrm>
            <a:off x="609480" y="304920"/>
            <a:ext cx="3962520" cy="5695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685800" y="601992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елиск на месте гибели лётч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7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685800" y="51055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Похороне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Юрий Гагарин у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Кремлёвской стен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Красной площа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0010-011-27-marta-1968-goda-JU_-A_-Gagarin-pogib-pri-nevyjasnennykh"/>
          <p:cNvPicPr/>
          <p:nvPr/>
        </p:nvPicPr>
        <p:blipFill>
          <a:blip r:embed="rId2"/>
          <a:stretch/>
        </p:blipFill>
        <p:spPr>
          <a:xfrm>
            <a:off x="1600200" y="838080"/>
            <a:ext cx="60958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724"/>
          <p:cNvPicPr/>
          <p:nvPr/>
        </p:nvPicPr>
        <p:blipFill>
          <a:blip r:embed="rId1"/>
          <a:stretch/>
        </p:blipFill>
        <p:spPr>
          <a:xfrm>
            <a:off x="3429000" y="1905120"/>
            <a:ext cx="2286000" cy="3047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72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52280" y="457200"/>
            <a:ext cx="8991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л на земле когда-то парен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улыбкой, словно солнца луч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простой фамилией Гагарин..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 счастлив в жизни был, везуч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му доверили всё неб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сь Космос, мириады звёзд..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кто-никто ещё там не бы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 первым вырвался из грёз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 первым облетел планет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красивым именем - Земл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рвался в мир наш, как комета..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оть мало прожил, но не зря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сотни лет живут на свет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азличных странах, город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мляне, тёзки… Вольный ветер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смос с детства в их сердцах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7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457200" y="304920"/>
            <a:ext cx="8534520" cy="50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чники использованных материал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http://grammota.com/news/gagarin/24-03-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http://www.stihi.ru/avtor/vera11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ziza.qip.ru/others/1302675720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jurijj_gagarin__50_let_poletu_v_kosmos__102_fotografii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http://www.google.ru/search?q=%D0%BA%D0%B0%D1%80%D1%82%D0%B8%D0%BD%D0%BA%D0%B8+%D0%BC%D0%B5%D1%81%D1%82%D0%BE+%D0%B3%D0%B8%D0%B1%D0%B5%D0%BB%D0%B8+%D1%8E%D1%80%D0%B8%D1%8F+%D0%B3%D0%B0%D0%B3%D0%B0%D1%80%D0%B8%D0%BD%D0%B0&amp;hl=ru&amp;newwindow=1&amp;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iw=1280&amp;bih=533&amp;tbm=isch&amp;ei=_vDsT9KTGMmphAf6wZCEDQ&amp;start=40&amp;sa=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google.ru/search?q=%D0%BA%D0%B0%D1%80%D1%82%D0%B8%D0%BD%D0%BA%D0%B8+%D0%B4%D0%BE%D0%BC+%D1%8E%D1%80%D0%B8%D1%8F+%D0%B3%D0%B0%D0%B3%D0%B0%D1%80%D0%B8%D0%BD%D0%B0&amp;hl=ru&amp;newwindow=1&amp;biw=1280&amp;bih=533&amp;tbm=isch&amp;prmd=imvnso&amp;ei=3uzsT5mgO8e2hAfP2Kn0DA&amp;start=20&amp;sa=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http://www.google.ru/search?q=%D0%BA%D0%B0%D1%80%D1%82%D0%B8%D0%BD%D0%BA%D0%B8+%D1%80%D0%B0%D0%BA%D0%B5%D1%82%D0%B0+%D1%8E%D1%80%D0%B8%D1%8F+%D0%B3%D0%B0%D0%B3%D0%B0%D1%80%D0%B8%D0%BD%D0%B0&amp;hl=ru&amp;newwindow=1&amp;biw=1280&amp;bih=533&amp;tbm=isch&amp;oq=%D0%BA%D0%B0%D1%80%D1%82%D0%B8%D0%BD%D0%BA%D0%B8+%D1%80%D0%B0%D0%BA%D0%B5%D1%82%D0%B0+%D1%8E%D1%80%D0%B8%D1%8F+%D0%B3%D0%B0%D0%B3%D0%B0%D1%80%D0%B8%D0%BD%D0%B0&amp;gs_l=img.12...25379.28800.0.30925.11.10.0.0.0.0.905.1741.6-2.2.0...0.0.WRZ08GH9W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7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10174575"/>
          <p:cNvPicPr/>
          <p:nvPr/>
        </p:nvPicPr>
        <p:blipFill>
          <a:blip r:embed="rId2"/>
          <a:stretch/>
        </p:blipFill>
        <p:spPr>
          <a:xfrm>
            <a:off x="380880" y="609480"/>
            <a:ext cx="2819520" cy="40197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3886200" y="990720"/>
            <a:ext cx="4465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Юр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лексе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Гагарин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вый в мире космонав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7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5699160" y="2322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914400" y="3481920"/>
            <a:ext cx="754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Юрий  Гагарин  родился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9 марта  1934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городе Гжатске Смоленской обла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го мать,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нна Тимофеев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отец,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лексей Иванович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были обычными сельскими тружениками из деревни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луши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Гжатского рай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дители воспитали в мальчике трудолюбивого и отзывчивого человек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624149618140755751ee8b9c290"/>
          <p:cNvPicPr/>
          <p:nvPr/>
        </p:nvPicPr>
        <p:blipFill>
          <a:blip r:embed="rId2"/>
          <a:stretch/>
        </p:blipFill>
        <p:spPr>
          <a:xfrm>
            <a:off x="4572000" y="152280"/>
            <a:ext cx="3276720" cy="3124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Юра"/>
          <p:cNvPicPr/>
          <p:nvPr/>
        </p:nvPicPr>
        <p:blipFill>
          <a:blip r:embed="rId3"/>
          <a:stretch/>
        </p:blipFill>
        <p:spPr>
          <a:xfrm>
            <a:off x="1447920" y="152280"/>
            <a:ext cx="1981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7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дети гагариных"/>
          <p:cNvPicPr/>
          <p:nvPr/>
        </p:nvPicPr>
        <p:blipFill>
          <a:blip r:embed="rId2"/>
          <a:stretch/>
        </p:blipFill>
        <p:spPr>
          <a:xfrm>
            <a:off x="380880" y="152280"/>
            <a:ext cx="4191120" cy="5562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228600" y="571500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ти Гагариных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Юра (сидит), Валентин, Борис, Зо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181480" y="228600"/>
            <a:ext cx="3429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тство Юрия прошло в деревне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Клуши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сентября 1941 года мальчик пошёл в школу, но 12 октября деревню заняли немцы и его учёба прервалась. Почти полтора года деревня  была оккупирована немецкими войсками. Младшего брата Юрия, Бориса Гагарина, немец повесил на шарфе, но мать успела снять его, пока солдат ходил за фотоаппара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1943 году деревню освободила Красная арм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7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380880" y="73440"/>
            <a:ext cx="8610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1945 год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емья Гагариных переехала в город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Гжатск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мае 1949 года Гагарин окончил шестой класс Гжатской средней школы, и поступил в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Люберецкое ремесленное училищ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дновременно поступил в вечернюю школу рабочей молодёжи, седьмой класс которой окончил в мае 1951 года, а в июне окончил с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отличием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илище по специальности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формовщик-литейщ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одноклассники"/>
          <p:cNvPicPr/>
          <p:nvPr/>
        </p:nvPicPr>
        <p:blipFill>
          <a:blip r:embed="rId2"/>
          <a:stretch/>
        </p:blipFill>
        <p:spPr>
          <a:xfrm>
            <a:off x="4343400" y="2743200"/>
            <a:ext cx="4495680" cy="3429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4572000" y="63244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классники Юрия Гагар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в Гжатске"/>
          <p:cNvPicPr/>
          <p:nvPr/>
        </p:nvPicPr>
        <p:blipFill>
          <a:blip r:embed="rId3"/>
          <a:stretch/>
        </p:blipFill>
        <p:spPr>
          <a:xfrm>
            <a:off x="838080" y="2438280"/>
            <a:ext cx="266724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7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1295280" y="0"/>
            <a:ext cx="6629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августе 1951 года Юрий Гагарин поступил в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аратовский индустриальный технику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25 октября 1954 года впервые пришёл в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аратовский аэроклу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1955 году Юрий Гагарин добился значительных успехов, закончил с отличием учёбу и совершил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первый самостоятельный полёт на самолёт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Юрий Гагарин"/>
          <p:cNvPicPr/>
          <p:nvPr/>
        </p:nvPicPr>
        <p:blipFill>
          <a:blip r:embed="rId2"/>
          <a:stretch/>
        </p:blipFill>
        <p:spPr>
          <a:xfrm>
            <a:off x="3962520" y="25909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0" y="6248520"/>
            <a:ext cx="9656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Юрий Гагарин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питан баскетбольной команды Саратовского индустриально технику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студент Саратовского индустр тех"/>
          <p:cNvPicPr/>
          <p:nvPr/>
        </p:nvPicPr>
        <p:blipFill>
          <a:blip r:embed="rId3"/>
          <a:stretch/>
        </p:blipFill>
        <p:spPr>
          <a:xfrm>
            <a:off x="685800" y="2514600"/>
            <a:ext cx="24098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7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5257800" y="533520"/>
            <a:ext cx="33526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1955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году Юрий Гагарин был призван в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арми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отправлен в Чкал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1-е военно-авиационное училищ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лётчиков имени К. Е. Ворошил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1957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году Гагарин училище окончил с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отличие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течение двух лет служил в 169-м истребительном авиационном пол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22-й истребительной авиационной дивизии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еверного фл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в самолёте"/>
          <p:cNvPicPr/>
          <p:nvPr/>
        </p:nvPicPr>
        <p:blipFill>
          <a:blip r:embed="rId2"/>
          <a:stretch/>
        </p:blipFill>
        <p:spPr>
          <a:xfrm>
            <a:off x="304920" y="1066680"/>
            <a:ext cx="48006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7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762120" y="228600"/>
            <a:ext cx="777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7 октября 1957 года Юрий Гагарин 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женился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Валентине Ивановне Горячев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которая стала его верным соратником на многие г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х семье выросли две дочери –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Елена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Галин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семья"/>
          <p:cNvPicPr/>
          <p:nvPr/>
        </p:nvPicPr>
        <p:blipFill>
          <a:blip r:embed="rId2"/>
          <a:stretch/>
        </p:blipFill>
        <p:spPr>
          <a:xfrm>
            <a:off x="609480" y="2209680"/>
            <a:ext cx="3200400" cy="4267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335_62-67_Gagarin%20copy"/>
          <p:cNvPicPr/>
          <p:nvPr/>
        </p:nvPicPr>
        <p:blipFill>
          <a:blip r:embed="rId3"/>
          <a:stretch/>
        </p:blipFill>
        <p:spPr>
          <a:xfrm>
            <a:off x="5105520" y="2286000"/>
            <a:ext cx="31240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7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838080" y="304920"/>
            <a:ext cx="7696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9 декабря 1959 год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Гагарин написал заявление с просьбой зачислить 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группу кандидатов в космонавт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 марта 1960 года приказом Главнокомандующего ВВС Константина Вершинина Юрий Гагарин был зачислен в эту групп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25 марта начались регулярные занятия по программе подготовки космонав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отряд первых космонавтов"/>
          <p:cNvPicPr/>
          <p:nvPr/>
        </p:nvPicPr>
        <p:blipFill>
          <a:blip r:embed="rId2"/>
          <a:stretch/>
        </p:blipFill>
        <p:spPr>
          <a:xfrm>
            <a:off x="1371600" y="2971800"/>
            <a:ext cx="6553080" cy="3429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2590920" y="647712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яд первых космонав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8T04:26:37Z</dcterms:created>
  <dc:creator>Настя</dc:creator>
  <dc:description/>
  <dc:language>en-US</dc:language>
  <cp:lastModifiedBy>user</cp:lastModifiedBy>
  <dcterms:modified xsi:type="dcterms:W3CDTF">2014-04-09T15:57:5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